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9.jpeg" ContentType="image/jpeg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8.jpeg" ContentType="image/jpeg"/>
  <Override PartName="/ppt/media/image4.pct" ContentType="image/x-pict"/>
  <Override PartName="/ppt/media/image17.jpeg" ContentType="image/jpeg"/>
  <Override PartName="/ppt/media/image11.pct" ContentType="image/x-pict"/>
  <Override PartName="/ppt/media/image16.jpeg" ContentType="image/jpeg"/>
  <Override PartName="/ppt/media/image14.jpeg" ContentType="image/jpeg"/>
  <Override PartName="/ppt/media/image1.jpeg" ContentType="image/jpeg"/>
  <Override PartName="/ppt/media/image2.pct" ContentType="image/x-pict"/>
  <Override PartName="/ppt/media/image3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25B9-A27C-46D7-9AA6-D2AC4DEA2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9683-EA17-4226-8F6D-BFE70CFC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0A53-20F5-4089-A771-79752EFC2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531F-3682-4633-A573-8482835F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A922-451E-4D4C-9733-D6D9C860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A69F-33FB-48E4-8169-F2BC62B4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7D97-636A-4230-A23F-ABDD34C1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C3CD-650E-44F7-8A68-0A30A2E1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357B-9262-4108-AD6C-68DAFD19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88F3-F0BA-4541-BAA7-57C039D9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C284-3A70-4E31-AC4E-29A27EB3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AB6E-EAB8-4DC6-842B-D726A7D1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FC8C-DF13-46F8-81B2-87A6F394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17D9-A510-4A85-994D-BA4FCA95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7F39-4428-41F5-9993-B0ABD576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7507-9CD8-4B2D-8FAE-48D10B520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96D4-28A1-42D8-8E33-129829CC7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476D-0F5F-4EEC-A4B1-38ED1CFB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3592-7952-4A26-BC5E-817A99E7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96AE-5A29-4F19-8B8F-9625D98A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A59A-AD1E-4333-97D4-5498C402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7D4A-2D5F-4A2B-B13A-56DC1021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3DDC-0490-4508-B04B-4230440A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C3EA-1A3A-4F21-BB45-BF172D2B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3921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327636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D80E-2B4B-47C2-94A6-81893A66EA31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440" y="1066680"/>
            <a:ext cx="579132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048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11BA-7EAA-4862-82DD-A659D2453A03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image" Target="../media/image9.pct"/><Relationship Id="rId4" Type="http://schemas.openxmlformats.org/officeDocument/2006/relationships/image" Target="../media/image10.pct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71440" y="1066680"/>
            <a:ext cx="579132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Industrialization, Urbanization &amp; Immigra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76160" y="3886200"/>
            <a:ext cx="70866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t 5: Becoming an Industrial Society 1877-19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Immigration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7760" y="1752480"/>
            <a:ext cx="6095880" cy="510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llis Isla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NY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ficial point of entry for immigra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/2 million, first year open 189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ories on American ident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Melting po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- assimilate &amp; blend 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ultural pluralis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- maintain cultural traditions in a diverse socie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Nativ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-Immig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ltural, religious &amp; economic iss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inese Exclusion Ac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188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inese immigration illegal until 194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371600" y="1752480"/>
            <a:ext cx="7391520" cy="4923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467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ypocrites”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Urbanization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 &amp; 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Industrialization</a:t>
            </a: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8120" y="1752480"/>
            <a:ext cx="5867280" cy="510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hnic city neighborhoods fo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ish, Italian, Greek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dustrializ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reates wealth but also inequ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weatsho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ctory jobs with long hours, unhealthy conditions, dangerous work, low pa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Dumbbell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en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lum apartments for lower class; not enough light, fresh air, running water, heating, or toilet facilit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Urbanization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 &amp; 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Industrialization</a:t>
            </a: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19520" y="1752120"/>
            <a:ext cx="632448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rban probl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owded, dangerous, unsanita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or immigrants often blamed for disease &amp; fil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acob Rii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photograp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How the Other Half Liv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189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ed the nation the conditions in New York slu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ane Addam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reform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tablishe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ettlement hous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help relieve poverty &amp; provide 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Leisure Time: Off the Clock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609588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cycles, cameras, clu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tator s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ball, football, box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blic transpor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usement par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ral Park, NY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rederick Law Olms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965240" y="380880"/>
            <a:ext cx="6050160" cy="5715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219320" y="393840"/>
            <a:ext cx="7543800" cy="5689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295280" y="533520"/>
            <a:ext cx="7543800" cy="5222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219320" y="507960"/>
            <a:ext cx="7543800" cy="5461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133720" y="609480"/>
            <a:ext cx="4689360" cy="5715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w Urban Invention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517200" y="6216480"/>
            <a:ext cx="49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ephone, Alexander Graham B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200400" y="1752480"/>
            <a:ext cx="5481720" cy="4343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28600" y="350532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w Urban Invention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5107320" y="61722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299120" y="1752480"/>
            <a:ext cx="4464000" cy="4343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30120" y="3127320"/>
            <a:ext cx="40896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w Urban Invention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5253120" y="61722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344840" y="1752480"/>
            <a:ext cx="3119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w Urban Invention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4573800" y="617220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semer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048120" y="2055960"/>
            <a:ext cx="571500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w Urban Invention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6887880" y="60199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bul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44640" y="198108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o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70640" y="601992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ckelode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6400" y="38088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39680" y="1523880"/>
            <a:ext cx="3365640" cy="4343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546880" y="1523880"/>
            <a:ext cx="3520800" cy="4368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657600" y="2514600"/>
            <a:ext cx="2435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w Urban Invention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3811680" y="6172200"/>
            <a:ext cx="46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 brake, George Westingho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048120" y="2009880"/>
            <a:ext cx="57150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w Urban Invention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4347360" y="617220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il drilling, Edwin Dra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343400" y="1752480"/>
            <a:ext cx="3398760" cy="4343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33520" y="2819520"/>
            <a:ext cx="3632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“</a:t>
            </a: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Old” v. “New” Immigrant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8280" y="1752120"/>
            <a:ext cx="33912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migration before Civil W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glish, German, Irish, Scandinavian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rthwestern Europ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lturally similar Anglo-Saxon herit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test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me education &amp; saving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ought farms or worked skilled job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714640" y="1752120"/>
            <a:ext cx="3429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migration after Civil W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talian, Greek, Polish, Russi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utheastern Europ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lturally different than befo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tholic or Jewis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skilled &amp; po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cked into city slums &amp; factory job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00:01:04Z</dcterms:created>
  <dc:creator>Northwood Highschool</dc:creator>
  <dc:description/>
  <dc:language>en-US</dc:language>
  <cp:lastModifiedBy>Northwood Highschool</cp:lastModifiedBy>
  <cp:lastPrinted>2008-10-15T22:37:06Z</cp:lastPrinted>
  <dcterms:modified xsi:type="dcterms:W3CDTF">2010-10-07T02:22:26Z</dcterms:modified>
  <cp:revision>10</cp:revision>
  <dc:subject/>
  <dc:title>Urbanization &amp; Immigration</dc:title>
</cp:coreProperties>
</file>